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455C4-7F9C-4991-B360-84C2690526B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23A17-EF80-43F9-86DC-9F035440D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DD7AD-5007-4B4F-9F88-AC1138E4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AEE06-C624-4D18-AEA8-18C2617025B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8F311-4F12-4242-94F3-C268FA98F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A2428-3F6E-462B-BC99-A4A322997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A9DBC-8AA2-4D40-AED7-F01187E3F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1BD4B-6D96-4A5B-A5DE-FACB5CCD7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54E2E-1614-4DB1-B004-F8E2F960D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11EFE-FB91-4FFE-906B-A3DA85349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2C34C-B885-4B29-ADDE-DDB5B1309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F3196-0051-4D81-926A-19D29F9DA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1002A-0589-41A5-A1E2-87E90403422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麻醉性镇痛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．作用于心血管系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量：无明显影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大剂量：对延髓血管运动中枢产生抑制作用，使外周血管扩张，引起血压下降，还可因引起体内组胺释放而致血压明显降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大剂量：注射后对呼吸中枢有抑制作用，可致缺氧和血液内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压增高，导致脑血管扩张、颅压增高、脑外伤、颅内占位性病变和颅压高的患者不宜选用吗啡类药物止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．作用于平滑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提高胃肠道平滑肌和括约肌的张力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蠕动减少和推动性节律收缩明显减弱；抑制消化液分泌，食物消化慢，水分吸收多，引起大便干燥和便秘。临床常用阿片酊剂止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对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Oddi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括约肌的收缩作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可阻止胆汁分泌，使胆道压力上升，诱发胆绞痛，故胆绞痛患者不能单用吗啡止痛，而应并用解痉药如阿托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提高输尿管平滑肌和膀胱括约肌张力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导致尿潴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大剂量支气管平滑肌收缩并有拮抗催产素的作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故支气管哮喘，肺心病患者和临产前、哺乳期妇女均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3198960" y="260280"/>
            <a:ext cx="594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吗啡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---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药理作用小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AutoShape 3"/>
          <p:cNvSpPr/>
          <p:nvPr/>
        </p:nvSpPr>
        <p:spPr>
          <a:xfrm>
            <a:off x="900000" y="1557360"/>
            <a:ext cx="457200" cy="4724280"/>
          </a:xfrm>
          <a:custGeom>
            <a:avLst/>
            <a:gdLst>
              <a:gd name="textAreaLeft" fmla="*/ 292320 w 457200"/>
              <a:gd name="textAreaRight" fmla="*/ 457560 w 457200"/>
              <a:gd name="textAreaTop" fmla="*/ 123120 h 4724280"/>
              <a:gd name="textAreaBottom" fmla="*/ 4601160 h 472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1403280" y="1341360"/>
            <a:ext cx="15210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神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心血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兴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平滑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2627280" y="1125360"/>
            <a:ext cx="304920" cy="1943280"/>
          </a:xfrm>
          <a:custGeom>
            <a:avLst/>
            <a:gdLst>
              <a:gd name="textAreaLeft" fmla="*/ 194760 w 304920"/>
              <a:gd name="textAreaRight" fmla="*/ 305280 w 304920"/>
              <a:gd name="textAreaTop" fmla="*/ 50400 h 1943280"/>
              <a:gd name="textAreaBottom" fmla="*/ 1892880 h 194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2987640" y="9810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镇痛镇静欣快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2987640" y="1413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呼吸抑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2987640" y="184464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镇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2987640" y="2708280"/>
            <a:ext cx="17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催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2987640" y="22766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缩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AutoShape 11"/>
          <p:cNvSpPr/>
          <p:nvPr/>
        </p:nvSpPr>
        <p:spPr>
          <a:xfrm>
            <a:off x="1447920" y="3276720"/>
            <a:ext cx="75960" cy="914400"/>
          </a:xfrm>
          <a:custGeom>
            <a:avLst/>
            <a:gdLst>
              <a:gd name="textAreaLeft" fmla="*/ 48600 w 75960"/>
              <a:gd name="textAreaRight" fmla="*/ 76320 w 759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Text Box 12"/>
          <p:cNvSpPr/>
          <p:nvPr/>
        </p:nvSpPr>
        <p:spPr>
          <a:xfrm>
            <a:off x="2987640" y="3213000"/>
            <a:ext cx="3048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扩张外周血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扩张脑血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AutoShape 13"/>
          <p:cNvSpPr/>
          <p:nvPr/>
        </p:nvSpPr>
        <p:spPr>
          <a:xfrm>
            <a:off x="2700360" y="4508640"/>
            <a:ext cx="287280" cy="2133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Text Box 14"/>
          <p:cNvSpPr/>
          <p:nvPr/>
        </p:nvSpPr>
        <p:spPr>
          <a:xfrm>
            <a:off x="2987640" y="4365720"/>
            <a:ext cx="312408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胃肠道：止泻、便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胆道：诱发胆绞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膀胱：排尿困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支气管：诱发哮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子宫：产程延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15"/>
          <p:cNvSpPr/>
          <p:nvPr/>
        </p:nvSpPr>
        <p:spPr>
          <a:xfrm>
            <a:off x="2700360" y="3284640"/>
            <a:ext cx="216000" cy="792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22"/>
                </a:lnTo>
                <a:cubicBezTo>
                  <a:pt x="10800" y="9922"/>
                  <a:pt x="5400" y="10822"/>
                  <a:pt x="0" y="10822"/>
                </a:cubicBezTo>
                <a:cubicBezTo>
                  <a:pt x="5400" y="10822"/>
                  <a:pt x="10800" y="11722"/>
                  <a:pt x="10800" y="1262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二）临床应用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．镇痛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急性锐痛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吗啡对各种疼痛都有效，但因易成瘾，故仅用于其他镇痛药无效的严重创伤、烧伤等引起的急性锐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心肌梗死引起的剧痛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若血压正常时可用吗啡止痛同时还能使病人镇静、消除焦虑不安情绪和扩张外周血管，降低外周阻力，减轻心脏负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987640" y="981000"/>
            <a:ext cx="39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．心源性哮喘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8920" y="19807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）心源性哮喘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由于左心衰竭表现为急性肺水肿而导致缺氧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堆积，产生呼吸困难；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的蓄积又可刺激呼吸中枢兴奋，使患者有呼吸急促、憋气和喘息现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）治疗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除应用强心苷、氨茶碱和吸氧外，小剂量的吗啡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m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可产生良好效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抑制呼吸中枢可降低呼吸中枢对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的敏感性，使呼吸频率变慢加深，增加换气量，减轻喘息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扩张外周血管，降低外周阻力，减轻心脏负荷有利病情改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枢镇静作用，均有利于消除患者焦虑情绪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其它原因引起的肺水肿也可应用小剂量吗啡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987640" y="1341360"/>
            <a:ext cx="33242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Verdana"/>
                <a:ea typeface="宋体"/>
              </a:rPr>
              <a:t>3</a:t>
            </a:r>
            <a:r>
              <a:rPr b="1" lang="zh-CN" sz="4000" spc="-1" strike="noStrike">
                <a:solidFill>
                  <a:srgbClr val="cc0000"/>
                </a:solidFill>
                <a:latin typeface="Verdana"/>
                <a:ea typeface="宋体"/>
              </a:rPr>
              <a:t>．止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000" y="2636640"/>
            <a:ext cx="7638840" cy="25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925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急慢性消耗性腹泻，可减轻症状，一般选用阿片酊或复方樟脑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925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有感染者应加用抗菌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三）体内过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6104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经口、鼻黏膜（滴鼻）、肺（吸入）及注射（皮下和肌注）等途径给药，吸收迅速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和静脉注射后，部分药物很快被肝代谢，效果不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常采用皮下或肌注。皮下注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后，可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60%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被吸收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6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9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作用达高峰，维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，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约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.5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可通过胎盘和乳汁影响胎儿和乳儿，影响新生儿和婴儿的呼吸，应予以注意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约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60%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70%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在体内经肝代谢消除，约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0%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原形由肾排泄，小量随胆汁排出，一般给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后大部分药物可排出体外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三）不良反应和药疗监护须知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6104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副作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量可引起恶心呕吐，排尿困难，呼吸抑制和便秘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急性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中毒症状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剂量过大可引起昏迷，呼吸高度抑制，瞳孔呈针尖大小，发绀，血压下降，尿少及脊髓兴奋，腱反射亢进等，不及时抢救可死于呼吸麻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抢救措施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是对症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呼吸兴奋药，人工呼吸、输液，吸氧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用吗啡对抗剂纳洛酮、烯丙吗啡以维持呼吸循环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耐受性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易产生耐受性，开始宜选小剂量（约半个治疗量），逐渐加大以找到最佳有效剂量，各种止痛药交替使用可延缓耐受性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成瘾性（慢性中毒）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连续用药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就可能产生，引起精神依赖和身体依赖，一旦停药会出现戒断症状。成瘾后患者不择手段地追求继续用药，危害极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禁忌证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禁用于分娩止痛，哺乳妇女和婴儿止痛。支气管哮喘、多痰咳嗽、肺心病、颅内压增高、痢疾、消化道和泌尿道阻塞性疾病及严重肝功能障碍患者，禁用吗啡类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可待因（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codeine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82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10000"/>
              </a:lnSpc>
              <a:spcBef>
                <a:spcPts val="13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甲基吗啡，脱去第三位甲基转为吗啡而起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10000"/>
              </a:lnSpc>
              <a:spcBef>
                <a:spcPts val="13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体内过程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易吸收，经肝代谢为无活性成分由肾排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10000"/>
              </a:lnSpc>
              <a:spcBef>
                <a:spcPts val="13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药理作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吗啡相似，但比吗啡弱，镇痛作用只有吗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/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镇咳和呼吸抑制作用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/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/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无明显镇静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1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4.   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镇咳、镇痛，与阿斯匹林合用可增强止痛效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10000"/>
              </a:lnSpc>
              <a:spcBef>
                <a:spcPts val="1349"/>
              </a:spcBef>
              <a:buClr>
                <a:srgbClr val="cc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不良反应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10000"/>
              </a:lnSpc>
              <a:spcBef>
                <a:spcPts val="13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恶心、呕吐、降压、便秘等作用均较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10000"/>
              </a:lnSpc>
              <a:spcBef>
                <a:spcPts val="13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久用也能成瘾，并与吗啡之间有交叉成瘾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4105080" y="1776600"/>
            <a:ext cx="1320840" cy="39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掌握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吗啡的药理作用、临床应用、不良反应和药疗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事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哌替啶的作用特点、临床应用、不良反应和药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护事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熟悉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可待因的作用特点、临床应用、主要不良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了解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其它镇痛药、阿片受体拮抗剂的作用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三节 人工合成镇痛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4000" y="2565000"/>
            <a:ext cx="86104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最常用的人工合成镇痛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易吸收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血药浓度达峰值，皮下或肌肉注射后吸收更迅速，故临床最常用注射给药，因皮下注射有刺激性，多选肌内注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肌内注射给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后出现镇静镇痛作用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达高峰，维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，在血液中蛋白结合率约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本药可通过胎盘进入胎儿体内，也可由乳汁排出影响乳儿，药物经肝代谢后由肾排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2700360" y="1197000"/>
            <a:ext cx="50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一、哌替啶（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pethidine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3706200" y="2016000"/>
            <a:ext cx="56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00"/>
                </a:solidFill>
                <a:latin typeface="Arial"/>
                <a:ea typeface="宋体"/>
              </a:rPr>
              <a:t>（一）体内过程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二）药理作用和作用机制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4960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．作用于中枢神经系统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约为吗啡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/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治疗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m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产生镇静和镇痛作用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可出现欣快感；对呼吸抑制作用较弱；镇咳作用很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．作用于心血管系统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吗啡作用相同但较弱，扩张外周血管引起血压下降，剂量大时可引起体位性低血压，而脑血管扩张可使颅压升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．平滑肌作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较弱且短暂，不引起便秘，无止泻作用，用于内脏绞痛时仍需和解痉药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．对妊娠后期子宫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正常收缩无影响，也无抗催产素作用，故可用于分娩止痛，但应选择在估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内胎儿不会分娩的情况下使用，避免引起新生儿窒息发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三）临床应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-360" y="1412640"/>
            <a:ext cx="8893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．镇痛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作用虽比吗啡弱，但成瘾性也较轻，因此临床常选        用。哌替啶对各种剧痛都有效，但对慢性钝痛不宜使用，因易成瘾。可用于分娩之痛，但临产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小时内不宜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．麻醉前给药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哌替啶使病人镇静，用后可消除患者手术前的紧张、恐惧情绪，可减少麻醉药用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．人工冬眠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与氯丙嗪、异丙嗪合用，组成冬眠合剂，用于人工冬眠疗法。其中氯丙嗪虽可增强哌替啶的镇静作用，但也使后者呼吸抑制和降压作用增强，故用合剂后能引起血压降低、心动过速和呼吸抑制等，应予注意。对年老体弱者，婴幼儿和呼吸功能不良者，在应用冬眠合剂时，可不加哌替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．心源性哮喘和肺水肿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代替吗啡应用，但疗效并不比吗啡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四）不良反应和禁忌证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量可引起恶心、呕吐、眩晕、心率过速和体位性低血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反复用药易产生耐受性，连续用药两周可成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轻度呼吸抑制作用，久用可导致脑血管扩张，颅内压升高，因此脑外伤和颅内疑有占位性病变时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支气管哮喘和慢性阻塞性肺部疾患，肺功能差者也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年老体弱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婴幼儿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过大剂量中毒表现为呼吸深度抑制和昏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也可见因哌替啶的体内代谢产物去甲哌替啶蓄积而引起中枢兴奋，心跳加快、谵妄、甚至惊厥。用纳络酮不能抗其惊厥症状，可选用巴比妥类药物对症治疗。故本药不宜长期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宋体"/>
                <a:ea typeface="宋体"/>
              </a:rPr>
              <a:t>二、其他人工合成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79280" y="1052640"/>
          <a:ext cx="8856720" cy="5332320"/>
        </p:xfrm>
        <a:graphic>
          <a:graphicData uri="http://schemas.openxmlformats.org/drawingml/2006/table">
            <a:tbl>
              <a:tblPr/>
              <a:tblGrid>
                <a:gridCol w="1513080"/>
                <a:gridCol w="4464000"/>
                <a:gridCol w="2879640"/>
              </a:tblGrid>
              <a:tr h="539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药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作用及应用特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主要不良反应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喷他佐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镇痛作用弱于吗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适用于各种慢性钝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与吗啡类似，成瘾性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1055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芬太尼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镇痛作用强，起效快，维持时间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适用于各种剧烈疼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与吗啡类似，成瘾性弱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于吗啡和哌替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颅痛定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镇痛作用比哌替啶弱，对慢性持续性疼痛和内脏钝痛效果好：还有镇静催眠作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常用于内脏钝痛、头痛、月经痛、分娩止痛等，比解热镇痛药作用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偶见眩晕、恶心、乏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等；无成瘾性，过量应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用可产生呼吸抑制作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二氢埃托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镇痛作用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适用于各种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有耐受性与依赖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美沙酮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镇痛作用强度与吗啡相似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适用于各种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耐受性与依赖性发生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慢，戒断症状较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179280" y="1268280"/>
          <a:ext cx="8713800" cy="5278680"/>
        </p:xfrm>
        <a:graphic>
          <a:graphicData uri="http://schemas.openxmlformats.org/drawingml/2006/table">
            <a:tbl>
              <a:tblPr/>
              <a:tblGrid>
                <a:gridCol w="1368360"/>
                <a:gridCol w="7345440"/>
              </a:tblGrid>
              <a:tr h="694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药物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作用特点及应用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141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纳洛酮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小剂量应用能迅速翻转阿片类药物的作用，解除呼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吸抑制并使血压上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对阿片类成瘾者应用纳洛酮后能立即出现戒断症状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1830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纳曲酮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lnSpc>
                          <a:spcPct val="12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与纳洛酮相似，但作用强（为纳洛酮的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倍），作用维持时间长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2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用于对阿片类药物或海洛因等毒品产生依赖性的患者，可明显降低复吸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烯丙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吗啡</a:t>
                      </a: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属阿片受体部分激动剂，镇痛强度较吗啡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无耐受性和依赖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用于解救阿片类药物中毒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四节  阿片受体拮抗剂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heel spokes="2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Verdana"/>
                <a:ea typeface="宋体"/>
              </a:rPr>
              <a:t>知识链接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324000" y="1484280"/>
            <a:ext cx="8351640" cy="46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癌痛三阶梯用药原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轻度疼痛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选用解热镇痛药，如阿司匹林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乙酰氨基酚、吲哚美辛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中度疼痛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选用弱阿片类药物，如可待因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曲马多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重度疼痛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选用强阿片类药物，如吗啡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哌替啶、芬太尼、美沙酮等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五节 麻醉性镇痛药护理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应严格按照麻醉品管理条例的规定保管和使用本类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每次给药间隔时间至少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，间隔太短易引起蓄积中毒或成瘾，反复用药更须注意掌握用药间隔时间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如需继续用本类药时，应有医师新的处方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过程密切观察患者成瘾性和耐受性的发生，并注意观察早期中毒症状，如出现呼吸抑制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）瞳孔缩小、嗜睡不醒等症状时应及时停药并报告医生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若用药过程出现腹胀、便秘等副作用，应鼓励病人多食粗粮，多饮水，并可用些缓泻剂。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2133360"/>
            <a:ext cx="807084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吗啡（或哌替啶）用于内脏绞痛时为何需与解痉药如阿托品合用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为什么吗啡和哌替啶可用于治疗心源性哮喘，但却禁用于支气管哮喘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哌替啶与吗啡相比较有哪些优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疼痛与镇痛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疼痛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很多疾病常见的一个症状，常同时伴有不愉快的情绪反应，剧烈疼痛可导致患者生理功能紊乱，如失眠、焦虑等，甚至可引起疼痛性休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麻醉性镇痛药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在不影响病人的神智和意识条件下，能选择性产生止痛作用的一类药物，它同时能减轻疼痛引起的不愉快情绪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麻醉性镇痛药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反复使用易成瘾，一旦停药会产生戒断症状，故又称为成瘾性镇痛药，临床必须严格管理，控制使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Verdana"/>
                <a:ea typeface="宋体"/>
              </a:rPr>
              <a:t>知识链接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539640" y="1413000"/>
            <a:ext cx="8136000" cy="48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宋体"/>
                <a:ea typeface="宋体"/>
              </a:rPr>
              <a:t>麻醉药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麻醉药品是指连续使用后易产生生理依赖性（成瘾性）的药品。包括阿片类、吗啡类、可卡因类及卫生部指定的其他易成瘾癖的毒性药品。其生产、运输、经营及储存均要严格按照国务院颁布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麻醉药品和精神药品管理条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执行。麻醉药品只能用于医疗、科研和教学需要。本章药物喷他佐辛除外，其他药物均为麻醉药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分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920" y="2421000"/>
            <a:ext cx="861048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天然阿片生物碱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吗啡、可待因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人工合成镇痛药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哌替啶、喷他佐辛、芬太尼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作用机制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71280" y="2491920"/>
            <a:ext cx="7561080" cy="20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本类药物通过与中枢神经系统的阿片受体结合而产生镇痛效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1904400" y="691200"/>
            <a:ext cx="53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阿片受体亚型激动时效应及有关药物的作用比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24000" y="1628640"/>
          <a:ext cx="8494560" cy="4613400"/>
        </p:xfrm>
        <a:graphic>
          <a:graphicData uri="http://schemas.openxmlformats.org/drawingml/2006/table">
            <a:tbl>
              <a:tblPr/>
              <a:tblGrid>
                <a:gridCol w="1511280"/>
                <a:gridCol w="2228760"/>
                <a:gridCol w="2449440"/>
                <a:gridCol w="2305080"/>
              </a:tblGrid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受体亚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b71201"/>
                      </a:solidFill>
                    </a:lnT>
                    <a:lnB w="144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μ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受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b71201"/>
                      </a:solidFill>
                    </a:lnT>
                    <a:lnB w="144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κ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受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b71201"/>
                      </a:solidFill>
                    </a:lnT>
                    <a:lnB w="144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δ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受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b71201"/>
                      </a:solidFill>
                    </a:lnT>
                    <a:lnB w="144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3988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效应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440">
                      <a:solidFill>
                        <a:srgbClr val="cc0000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镇 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440">
                      <a:solidFill>
                        <a:srgbClr val="cc0000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镇 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440">
                      <a:solidFill>
                        <a:srgbClr val="cc0000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烦躁不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440">
                      <a:solidFill>
                        <a:srgbClr val="cc0000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（脊髓以上水平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（脊髓水平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幻觉，焦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呼吸抑制欣快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缩 瞳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血管运动中枢兴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成 瘾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镇 静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呼吸兴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988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激 动 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吗 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哌替啶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吗 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喷他佐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烯丙吗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哌替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喷他佐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4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部分激动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喷他佐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49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烯丙吗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拮 抗 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b712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纳洛酮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b712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纳洛酮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b712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纳洛酮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b7120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二节 阿片生物碱类镇痛药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一、吗啡（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morphine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00"/>
                </a:solidFill>
                <a:latin typeface="Verdana"/>
                <a:ea typeface="宋体"/>
              </a:rPr>
              <a:t>（一）药理作用和作用机制 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作用于中枢神经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作用于心血管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作用于平滑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692360" y="4194000"/>
            <a:ext cx="58561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．作用于中枢神经系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）镇痛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）呼吸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）镇咳作用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）缩瞳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）催吐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3995640" y="1557360"/>
            <a:ext cx="4608720" cy="2951280"/>
          </a:xfrm>
          <a:prstGeom prst="wedgeRectCallout">
            <a:avLst>
              <a:gd name="adj1" fmla="val -72185"/>
              <a:gd name="adj2" fmla="val -37574"/>
            </a:avLst>
          </a:prstGeom>
          <a:solidFill>
            <a:srgbClr val="8ac8de"/>
          </a:solidFill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m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就可产生明显的镇痛作用，同时也产生镇静、欣快感和改善情绪的效应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一次给药可维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对各种疼痛均有效，对钝痛作用比锐痛显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3924360" y="1484280"/>
            <a:ext cx="5040360" cy="3311640"/>
          </a:xfrm>
          <a:prstGeom prst="wedgeRectCallout">
            <a:avLst>
              <a:gd name="adj1" fmla="val -71134"/>
              <a:gd name="adj2" fmla="val -9106"/>
            </a:avLst>
          </a:prstGeom>
          <a:solidFill>
            <a:srgbClr val="8ac8de"/>
          </a:solidFill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作用强而持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治疗量：可使呼吸中枢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2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敏感性降低， 使呼吸频率减慢，肺潮气量降低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量：可使呼吸频率降至每分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次，最终导致呼吸停止，故吗啡不用于分娩止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995640" y="2852640"/>
            <a:ext cx="4608720" cy="1511280"/>
          </a:xfrm>
          <a:prstGeom prst="wedgeRectCallout">
            <a:avLst>
              <a:gd name="adj1" fmla="val -74046"/>
              <a:gd name="adj2" fmla="val 14601"/>
            </a:avLst>
          </a:prstGeom>
          <a:solidFill>
            <a:srgbClr val="8ac8de"/>
          </a:solidFill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很强的镇咳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易成瘾，临床极少采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4140360" y="2997360"/>
            <a:ext cx="4608360" cy="2232000"/>
          </a:xfrm>
          <a:prstGeom prst="wedgeRectCallout">
            <a:avLst>
              <a:gd name="adj1" fmla="val -79037"/>
              <a:gd name="adj2" fmla="val 29231"/>
            </a:avLst>
          </a:prstGeom>
          <a:solidFill>
            <a:srgbClr val="8ac8de"/>
          </a:solidFill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激动中脑动眼神经中枢部位的阿片受体，产生缩瞳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剂量可使瞳孔缩呈针尖大小，是吗啡中毒特征之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3995640" y="4437000"/>
            <a:ext cx="4608720" cy="1728720"/>
          </a:xfrm>
          <a:prstGeom prst="wedgeRectCallout">
            <a:avLst>
              <a:gd name="adj1" fmla="val -76212"/>
              <a:gd name="adj2" fmla="val 25023"/>
            </a:avLst>
          </a:prstGeom>
          <a:solidFill>
            <a:srgbClr val="8ac8de"/>
          </a:solidFill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15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吗啡兴奋延脑催吐化学感受器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TZ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，引起恶心呕吐，可用氯丙嗪对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8T01:10:24Z</dcterms:modified>
  <cp:revision>1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